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99+1 non fa 100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na lettura critica dei dati sulla dispersione nella provincia di Bolog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minativi di ragazzi a rischio di dispersione trasmessi  al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rvizio tutorato – Centri per l’impi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termine del 2007 attraverso i controlli incrociati tra Anagrafi scolastiche e banca dati della Formazione professionale, l’Osservatorio sulla scolarità ha individua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1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minativi di ragazzi a rischio dispersione che sono stati segnalati al Servizio Lavoro per l’attivazione dei Tutor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38862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cuola bologne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a geografia in movimen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45820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mbia la composiz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s. 2007/08: 11% di studenti con cittadinanza non italiana e 2,4% di studenti disa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trasformano le scel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s. 2007/08: oltre il 40% di studenti delle scuole superiori frequenta un lic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polarizza l’utilizzo degli spazi scolasti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uole affollate e scuole sotto-utilizz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nte: MIU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iano i numeri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4-2007: aumento di 3.000 studenti ogni anno scolast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26836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99+1 fa 100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s. 2007/08: nati negli anni 1990-91-92-93 (14-17enni) - tassi di assolvimento dell’obbligo formativo nella scuola secondaria di II grado, nella formazione professionale, nell’apprendistat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58920" y="1773360"/>
          <a:ext cx="6243480" cy="3278160"/>
        </p:xfrm>
        <a:graphic>
          <a:graphicData uri="http://schemas.openxmlformats.org/drawingml/2006/table">
            <a:tbl>
              <a:tblPr/>
              <a:tblGrid>
                <a:gridCol w="4046400"/>
                <a:gridCol w="990720"/>
                <a:gridCol w="12063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ov.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milia Romag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udenti residenti in prov. di Bo, che frequentano scuole fuori pr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.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udenti residenti in prov. di Bo che frequentano scuole in prov. di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3.8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4.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e giovani in Of residenti in prov. di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7.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2.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sso di scolarizzazione OF (scuola sec. di II gr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scritti alla FP (domiciliati in prov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.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scritti in Apprendistato (domiciliati in prov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. iscritti FP+apprendis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sso assolvimento OF in FP e Apprendis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sso si assolvimento totale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769800" y="6165720"/>
            <a:ext cx="187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Fonte: Regione Emilia Romag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dispersione è l’esito di percorsi sui quali incidono molteplici fattori di risch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cesso/insuccesso scolastico e formativ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rregolarità dei percorsi scolastici e formativ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sferimenti tra canali del sistema di istruzione e form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Tali fattori si originano dalla combinazione di due macro- dimens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condizione dell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studente che si disperde;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aratteristiche del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sistema che disperde</a:t>
            </a:r>
            <a:r>
              <a:rPr b="1" i="1" lang="it-IT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successo e l’insuccesso scolastico e f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cuola secondaria di I grado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l’a.s. 2006/07,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,2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i studenti non promossi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,7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i non promossi al termine della classe II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cuola secondaria di II grado a.s. 2006/07**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6320" y="2631960"/>
          <a:ext cx="3809880" cy="2498760"/>
        </p:xfrm>
        <a:graphic>
          <a:graphicData uri="http://schemas.openxmlformats.org/drawingml/2006/table">
            <a:tbl>
              <a:tblPr/>
              <a:tblGrid>
                <a:gridCol w="1618920"/>
                <a:gridCol w="1095480"/>
                <a:gridCol w="1095480"/>
              </a:tblGrid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acro area di istru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omossi con debito (val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Bocciati (val.%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c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6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stituti tec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7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stituti profession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stituti artist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3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838080" y="5410080"/>
            <a:ext cx="374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*Fonte: Osservatorio sulla scolarità della Provincia di Bolog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** Fonte:. MI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*** Fonte: Osservatorio sulla scolarità della Provincia di Bolog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657600"/>
            <a:ext cx="311292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l passaggio tra la cl. I e la cl. II è il più cri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27% di non ammessi alla cl. II negli istituti professionali, 23% negli istituti tecnici, 12% nei licei.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’irregolarità dei percorsi scolastici e formativi</a:t>
            </a:r>
            <a:br>
              <a:rPr sz="28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.s.2006/07: la “carriera” dello studente nella scuola secondaria di II grad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5181480"/>
            <a:ext cx="792144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l 24 % della totalità di studenti che frequenta istituti superiori è in posizione irregolar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30200" y="1700280"/>
          <a:ext cx="8462880" cy="3127320"/>
        </p:xfrm>
        <a:graphic>
          <a:graphicData uri="http://schemas.openxmlformats.org/drawingml/2006/table">
            <a:tbl>
              <a:tblPr/>
              <a:tblGrid>
                <a:gridCol w="639720"/>
                <a:gridCol w="1054080"/>
                <a:gridCol w="652680"/>
                <a:gridCol w="1081080"/>
                <a:gridCol w="1052280"/>
                <a:gridCol w="1138320"/>
                <a:gridCol w="1066680"/>
                <a:gridCol w="1065240"/>
                <a:gridCol w="712800"/>
              </a:tblGrid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no di nasc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se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se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se I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se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se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4e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nati   199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.95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98,6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.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e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nati 199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.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.86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78,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.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e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nati 19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.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.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73,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.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e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nati 198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.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7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.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e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nati 198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.507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(70,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.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.6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.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.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.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.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678000" y="6165720"/>
            <a:ext cx="2085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* Fonte: Osservatorio sulla scolarit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ritiri da scuola e i trasferimenti tra canali del sistema di istruzione e form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s. 2006/0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i che nel corso dell’anno scolastico si  sono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itirat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a una scuola superiore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4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,9% del tot.)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i che nel corso dell’anno scolastico si  sono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rasferit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una scuola superiore al di fuori della provincia o verso la formazione professional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,1%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petto alla totalità degli studenti che frequentano il sistema di istruzione, si osservano le seguenti variazioni negative nei passaggi tra una classe e l’altra del ciclo quinquenn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lla cl.I a alla cl. II:  – 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lla cl.II a alla cl. III: - 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lla cl. III alla cl. IV: - 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lla cl. IV alla cl. V: - 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*Fonte: Osservatorio sulla scolarità provinci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li allievi della formazione professionale per l’assolvimento del diritto-dovere di istruzione e formazione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f. 2005/06: 1.120 allie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f. 2006/07: 1.192 allie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f. 2007/08: 1.355 allie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f. 2008/09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8640" y="6019920"/>
            <a:ext cx="173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Fonte: Provincia di Bolog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4038480"/>
          <a:ext cx="5638680" cy="7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56386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914400" y="5029200"/>
          <a:ext cx="5638680" cy="76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029200"/>
                    <a:ext cx="56386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44:12Z</dcterms:created>
  <dc:creator>diskimage</dc:creator>
  <dc:description/>
  <dc:language>en-US</dc:language>
  <cp:lastModifiedBy>UTENTE</cp:lastModifiedBy>
  <dcterms:modified xsi:type="dcterms:W3CDTF">2008-12-12T11:27:38Z</dcterms:modified>
  <cp:revision>29</cp:revision>
  <dc:subject/>
  <dc:title>99+1 non fa 100.  Una lettura critica dei dati sulla dispersione nella provincia di Bologna</dc:title>
</cp:coreProperties>
</file>